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4.gif" ContentType="image/gif"/>
  <Override PartName="/ppt/media/image23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8.jpeg" ContentType="image/jpeg"/>
  <Override PartName="/ppt/media/image32.gif" ContentType="image/gif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31.gif" ContentType="image/gif"/>
  <Override PartName="/ppt/media/image30.gif" ContentType="image/gif"/>
  <Override PartName="/ppt/media/image33.gif" ContentType="image/gif"/>
  <Override PartName="/ppt/media/image3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26.gif" ContentType="image/gif"/>
  <Override PartName="/ppt/media/image10.png" ContentType="image/png"/>
  <Override PartName="/ppt/media/image1.jpeg" ContentType="image/jpeg"/>
  <Override PartName="/ppt/media/image27.gif" ContentType="image/gif"/>
  <Override PartName="/ppt/media/image16.gif" ContentType="image/gif"/>
  <Override PartName="/ppt/media/image17.gif" ContentType="image/gif"/>
  <Override PartName="/ppt/media/image19.gif" ContentType="image/gif"/>
  <Override PartName="/ppt/media/image21.gif" ContentType="image/gi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CD8-9736-4A0C-89C5-94CAF719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3A2-0C24-4DAD-9F4F-DBE02321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FF7-B9EA-4DB7-B6D0-84BD7447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22B-7B91-4467-B514-D619849F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EB7D-E535-43A0-8F20-8C8D3A91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4687-2B98-40D6-BA29-E2948E81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AEFC-8872-4674-B4B5-4DE74EE5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07B4-E86F-47DC-BC70-17600F88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A40D-8814-4C68-8AFF-AB7B90D6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A43C-E2D8-4810-B3B2-87D8C54F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67B4-9CBF-4595-BC6B-90EB5295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D5D-9C8E-401B-91F3-B36C347F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6EF3-3A1A-4471-BB84-C2005B10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7B3A-CCD4-4D71-8CED-A2A6695B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4F18-6FFB-4AB6-822E-C51680DD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5919-8A47-4E49-ADA9-C4A37673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D1A9-3053-4B9D-99D5-1C97ABCF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D885F-95BE-43C9-85C0-58318B27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0D3B3-37A6-49F7-AA5B-53322ADE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58624-BE5B-4289-8231-32684D00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2B217-99E0-47F8-867C-A9DCC65B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34114-2B5A-4ED3-AC6A-6AF920B4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77B-0658-4759-9AEB-374FF3E0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3B582-547B-42BC-A8E4-5394AEC4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B1F3-5421-4B86-A508-F60DF1EB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1367-7CC4-4B16-AF96-55A88299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6BB4-4D3D-47FE-A402-1B162785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7519-7A5F-4A78-8760-339B784C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E96DD-DB35-4040-83AA-1FB665DF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9F6A-FAFC-4E7B-98B6-4CCDE782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0896-79C5-49BC-9DB4-E8F0A7A9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18453-CF8C-4CCA-B5A1-8831DDC0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D4185-1BE6-4BA4-9F94-3E749E5C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5D6-5A98-44CC-A079-A7480788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AB168-06AD-48CC-99DD-FFFBD48D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F770F-FE40-4350-9CB5-02477C1A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6D10D-EC82-45AC-BAC7-C308C369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5D1CE-B601-4E3A-9F52-83E5A9B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DADB4-037B-41B2-B33E-4009EC69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FD82-3B59-45DE-862A-937A3700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961E5-CC32-40F7-BA32-98F68464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65A57-0119-49D7-97E2-F57872DB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4B52-14C2-445C-A94D-F20E0C54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D63-B491-4EE4-B43D-D1806071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3D1-41B7-4A37-9217-9094A5D6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5782-E1C2-4211-A8EA-E5C91BA9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A20-D4CC-4AAB-80DB-60620DE6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647-DF95-47A4-81B5-86CAF3E5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94FD-CCD6-48FF-9508-E244396FE8B9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D4F8-B0F9-49DD-8151-894BF5E5327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BE07-A885-4100-BBAB-FA194AA0C9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9D6B-C10F-4B83-97AC-7B6611A200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15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" Target="slide18.xml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7.gif"/><Relationship Id="rId3" Type="http://schemas.openxmlformats.org/officeDocument/2006/relationships/image" Target="../media/image31.gif"/><Relationship Id="rId4" Type="http://schemas.openxmlformats.org/officeDocument/2006/relationships/slide" Target="slide18.xml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7.gif"/><Relationship Id="rId3" Type="http://schemas.openxmlformats.org/officeDocument/2006/relationships/image" Target="../media/image33.gif"/><Relationship Id="rId4" Type="http://schemas.openxmlformats.org/officeDocument/2006/relationships/slide" Target="slide18.xml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" Target="slide18.xml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3.gif"/><Relationship Id="rId3" Type="http://schemas.openxmlformats.org/officeDocument/2006/relationships/image" Target="../media/image26.gif"/><Relationship Id="rId4" Type="http://schemas.openxmlformats.org/officeDocument/2006/relationships/slide" Target="slide18.xml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cc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012000" y="5373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698920" y="1052640"/>
            <a:ext cx="417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ff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c66ff">
                      <a:alpha val="80000"/>
                    </a:srgbClr>
                  </a:outerShdw>
                </a:effectLst>
                <a:latin typeface="Georgia"/>
              </a:rPr>
              <a:t>Движения</a:t>
            </a:r>
            <a:endParaRPr b="1" lang="en-US" sz="1800" spc="1" strike="noStrike">
              <a:ln w="3816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ffff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17819" dir="2700000" blurRad="0" rotWithShape="0">
                  <a:srgbClr val="cc66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3" name=""/>
          <p:cNvSpPr/>
          <p:nvPr/>
        </p:nvSpPr>
        <p:spPr>
          <a:xfrm>
            <a:off x="322200" y="4797360"/>
            <a:ext cx="4105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00cc">
                  <a:alpha val="89019"/>
                </a:srgbClr>
              </a:gs>
            </a:gsLst>
            <a:path path="rect">
              <a:fillToRect l="50000" t="50000" r="50000" b="50000"/>
            </a:path>
          </a:gradFill>
          <a:ln w="92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Вертикальные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859280" y="4797360"/>
            <a:ext cx="403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00cc">
                  <a:alpha val="89019"/>
                </a:srgbClr>
              </a:gs>
            </a:gsLst>
            <a:path path="rect">
              <a:fillToRect l="50000" t="50000" r="50000" b="50000"/>
            </a:path>
          </a:gradFill>
          <a:ln w="92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Горизонтальные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297800">
            <a:off x="2475000" y="2569680"/>
            <a:ext cx="220680" cy="2271960"/>
          </a:xfrm>
          <a:prstGeom prst="downArrow">
            <a:avLst>
              <a:gd name="adj1" fmla="val 50000"/>
              <a:gd name="adj2" fmla="val 257382"/>
            </a:avLst>
          </a:prstGeom>
          <a:gradFill rotWithShape="0">
            <a:gsLst>
              <a:gs pos="0">
                <a:srgbClr val="ffffff"/>
              </a:gs>
              <a:gs pos="100000">
                <a:srgbClr val="9900cc">
                  <a:alpha val="89019"/>
                </a:srgbClr>
              </a:gs>
            </a:gsLst>
            <a:path path="rect">
              <a:fillToRect l="50000" t="50000" r="50000" b="50000"/>
            </a:path>
          </a:gradFill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20481600">
            <a:off x="6514920" y="2563560"/>
            <a:ext cx="215640" cy="2232000"/>
          </a:xfrm>
          <a:prstGeom prst="downArrow">
            <a:avLst>
              <a:gd name="adj1" fmla="val 50000"/>
              <a:gd name="adj2" fmla="val 258765"/>
            </a:avLst>
          </a:prstGeom>
          <a:gradFill rotWithShape="0">
            <a:gsLst>
              <a:gs pos="0">
                <a:srgbClr val="ffffff"/>
              </a:gs>
              <a:gs pos="100000">
                <a:srgbClr val="9900cc">
                  <a:alpha val="89019"/>
                </a:srgbClr>
              </a:gs>
            </a:gsLst>
            <a:path path="rect">
              <a:fillToRect l="50000" t="50000" r="50000" b="50000"/>
            </a:path>
          </a:gradFill>
          <a:ln w="414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95280" y="1844640"/>
            <a:ext cx="37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ff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c66ff">
                      <a:alpha val="80000"/>
                    </a:srgbClr>
                  </a:outerShdw>
                </a:effectLst>
                <a:latin typeface="Georgia"/>
              </a:rPr>
              <a:t>земной</a:t>
            </a:r>
            <a:endParaRPr b="1" lang="en-US" sz="1800" spc="1" strike="noStrike">
              <a:ln w="3816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ffff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17819" dir="2700000" blurRad="0" rotWithShape="0">
                  <a:srgbClr val="cc66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003640" y="2060640"/>
            <a:ext cx="3745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9933ff"/>
                    </a:gs>
                    <a:gs pos="50000">
                      <a:srgbClr val="ffff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c66ff">
                      <a:alpha val="80000"/>
                    </a:srgbClr>
                  </a:outerShdw>
                </a:effectLst>
                <a:latin typeface="Georgia"/>
              </a:rPr>
              <a:t>коры</a:t>
            </a:r>
            <a:endParaRPr b="1" lang="en-US" sz="1800" spc="1" strike="noStrike">
              <a:ln w="3816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9933ff"/>
                  </a:gs>
                  <a:gs pos="50000">
                    <a:srgbClr val="ffff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17819" dir="2700000" blurRad="0" rotWithShape="0">
                  <a:srgbClr val="cc66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451640" y="260280"/>
            <a:ext cx="14032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476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ила землетрясений по 12-бальной шкале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68360" y="1268280"/>
          <a:ext cx="8218440" cy="5032440"/>
        </p:xfrm>
        <a:graphic>
          <a:graphicData uri="http://schemas.openxmlformats.org/drawingml/2006/table">
            <a:tbl>
              <a:tblPr/>
              <a:tblGrid>
                <a:gridCol w="1293840"/>
                <a:gridCol w="692460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ллы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арактеристика землетрясений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е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щущается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Отмечается только специальными приборами.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3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чень слабое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Ощущается только очень чуткими домашними животными и некоторыми людьми в верхних этажах зданий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лабое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Ощущается только внутри некоторых зданий, как сотрясение грузовика.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826920" y="3573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826920" y="5300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39640" y="1700280"/>
          <a:ext cx="8229600" cy="2760480"/>
        </p:xfrm>
        <a:graphic>
          <a:graphicData uri="http://schemas.openxmlformats.org/drawingml/2006/table">
            <a:tbl>
              <a:tblPr/>
              <a:tblGrid>
                <a:gridCol w="1295640"/>
                <a:gridCol w="6933960"/>
              </a:tblGrid>
              <a:tr h="27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Умеренное.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лышны скрип половиц, балок, звон посуды, дрожание мебели. Внутри здания сотрясение ощущается большинством людей. 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"/>
          <p:cNvGraphicFramePr/>
          <p:nvPr/>
        </p:nvGraphicFramePr>
        <p:xfrm>
          <a:off x="457200" y="380880"/>
          <a:ext cx="8229600" cy="6153120"/>
        </p:xfrm>
        <a:graphic>
          <a:graphicData uri="http://schemas.openxmlformats.org/drawingml/2006/table">
            <a:tbl>
              <a:tblPr/>
              <a:tblGrid>
                <a:gridCol w="946080"/>
                <a:gridCol w="728352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Довольно сильное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В комнатах чувствуются толчки, как от падения тяжелых вещей. Хлопают двери. Лопаются оконные стекла, качаются люстры и мебель, останавливаются настенные часы. Качаются тонкие ветки деревьев. Ощущаются многими людьми и вне зданий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ильное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Качается тяжелая мебель, бьется посуда, падают с полки книги, иногда трескается штукатурка, разрушаются только очень ветхие здания. Ощущается всеми людьми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чень сильное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Разрушаются плохо построенные и ветхие дома. В крепких зданиях появляются небольшие трещины, осыпается штукатурка. Изменяется уровень воды в колодцах. В реках и озерах мутнеет вода. Иногда наблюдаются оползни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684360" y="5084640"/>
            <a:ext cx="57456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457200" y="380880"/>
          <a:ext cx="8435880" cy="5977080"/>
        </p:xfrm>
        <a:graphic>
          <a:graphicData uri="http://schemas.openxmlformats.org/drawingml/2006/table">
            <a:tbl>
              <a:tblPr/>
              <a:tblGrid>
                <a:gridCol w="777960"/>
                <a:gridCol w="7657920"/>
              </a:tblGrid>
              <a:tr h="23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азрушительное.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Деревья сильно раскачиваются, часть их ломается, разваливаются прочные ограды, падают фабричные трубы. Разрушаются многие крепкие здания. На почве появляются трещины.</a:t>
                      </a:r>
                      <a:endParaRPr b="0" lang="en-US" sz="25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Опустошительное.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Дома разрушаются. Появляются значительные трещины.</a:t>
                      </a:r>
                      <a:endParaRPr b="0" lang="en-US" sz="25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Уничтожающее.</a:t>
                      </a:r>
                      <a:r>
                        <a:rPr b="0" lang="en-US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Разрушаются хорошо построенные деревянные дома и мосты, крепкие здания и даже фундамент. Разрываются водопроводные и канализационные трубы. Повреждаются насыпи, плотины и дамбы. Возникают оползни и обвалы, трещины и изгибы в почве. Из рек и озер выплескивается вода. </a:t>
                      </a:r>
                      <a:endParaRPr b="0" lang="en-US" sz="25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468360" y="486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685800" y="1128600"/>
          <a:ext cx="7772400" cy="4248360"/>
        </p:xfrm>
        <a:graphic>
          <a:graphicData uri="http://schemas.openxmlformats.org/drawingml/2006/table">
            <a:tbl>
              <a:tblPr/>
              <a:tblGrid>
                <a:gridCol w="1224000"/>
                <a:gridCol w="6548400"/>
              </a:tblGrid>
              <a:tr h="198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атастрофа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Почти все каменные постройки разваливаются, разрушаются дороги, плотины, насыпи, мосты. Образуются широкие трещины со сдвигами.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1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Сильная катастрофа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Разрушаются все сооружения. Отдельные предметы подбрасываются при толчках. Преображается вся местность. Изменяются русла рек. Образуются водопады. На поверхности грунта видны земляные волны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6" name=""/>
          <p:cNvGrpSpPr/>
          <p:nvPr/>
        </p:nvGrpSpPr>
        <p:grpSpPr>
          <a:xfrm>
            <a:off x="755640" y="3645000"/>
            <a:ext cx="1007640" cy="502920"/>
            <a:chOff x="755640" y="3645000"/>
            <a:chExt cx="1007640" cy="502920"/>
          </a:xfrm>
        </p:grpSpPr>
        <p:pic>
          <p:nvPicPr>
            <p:cNvPr id="497" name="" descr=""/>
            <p:cNvPicPr/>
            <p:nvPr/>
          </p:nvPicPr>
          <p:blipFill>
            <a:blip r:embed="rId1"/>
            <a:stretch/>
          </p:blipFill>
          <p:spPr>
            <a:xfrm>
              <a:off x="1245240" y="3645000"/>
              <a:ext cx="518040" cy="5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2"/>
            <a:stretch/>
          </p:blipFill>
          <p:spPr>
            <a:xfrm>
              <a:off x="755640" y="3645000"/>
              <a:ext cx="518040" cy="50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"/>
          <p:cNvGrpSpPr/>
          <p:nvPr/>
        </p:nvGrpSpPr>
        <p:grpSpPr>
          <a:xfrm>
            <a:off x="755640" y="1844640"/>
            <a:ext cx="1007640" cy="502920"/>
            <a:chOff x="755640" y="1844640"/>
            <a:chExt cx="1007640" cy="502920"/>
          </a:xfrm>
        </p:grpSpPr>
        <p:pic>
          <p:nvPicPr>
            <p:cNvPr id="500" name="" descr=""/>
            <p:cNvPicPr/>
            <p:nvPr/>
          </p:nvPicPr>
          <p:blipFill>
            <a:blip r:embed="rId3"/>
            <a:stretch/>
          </p:blipFill>
          <p:spPr>
            <a:xfrm>
              <a:off x="1245240" y="1844640"/>
              <a:ext cx="518040" cy="5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" descr=""/>
            <p:cNvPicPr/>
            <p:nvPr/>
          </p:nvPicPr>
          <p:blipFill>
            <a:blip r:embed="rId4"/>
            <a:stretch/>
          </p:blipFill>
          <p:spPr>
            <a:xfrm>
              <a:off x="755640" y="1844640"/>
              <a:ext cx="51804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971640" y="476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Сейсмически активные зоны планет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00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87280" y="2565000"/>
            <a:ext cx="676944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1296720" cy="3236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126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826920" y="404640"/>
            <a:ext cx="770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Правильны ли утверждения?</a:t>
            </a:r>
            <a:endParaRPr b="1" lang="en-US" sz="1800" spc="1" strike="noStrike">
              <a:ln w="3168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979640" y="4508640"/>
            <a:ext cx="15508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Да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64000" y="4508640"/>
            <a:ext cx="2087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Нет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sp>
        <p:nvSpPr>
          <p:cNvPr id="511" name=""/>
          <p:cNvSpPr/>
          <p:nvPr/>
        </p:nvSpPr>
        <p:spPr>
          <a:xfrm>
            <a:off x="1121400" y="1536840"/>
            <a:ext cx="783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Georgia"/>
              </a:rPr>
              <a:t>Земная кора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Georgia"/>
              </a:rPr>
              <a:t>находится  в  постоянном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Georgia"/>
              </a:rPr>
              <a:t>движении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56720" y="5589720"/>
            <a:ext cx="6667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66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58560" y="285228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Georgia"/>
              </a:rPr>
              <a:t>Для равнинных районов  характерны землетрясения</a:t>
            </a: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Georgia"/>
              </a:rPr>
              <a:t>и  разломы.</a:t>
            </a:r>
            <a:br>
              <a:rPr sz="48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1152360" cy="2887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126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0" y="6237360"/>
            <a:ext cx="9144000" cy="3333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826920" y="541440"/>
            <a:ext cx="784872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Правильны ли утверждения?</a:t>
            </a:r>
            <a:endParaRPr b="1" lang="en-US" sz="1800" spc="1" strike="noStrike">
              <a:ln w="3168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050920" y="5079960"/>
            <a:ext cx="12304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Да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5435640" y="501336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Нет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pic>
        <p:nvPicPr>
          <p:cNvPr id="52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56720" y="5589720"/>
            <a:ext cx="6667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368360" cy="34272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126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 flipH="1" rot="6000">
            <a:off x="0" y="6308640"/>
            <a:ext cx="9144000" cy="27144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618920" y="2349360"/>
            <a:ext cx="5699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"/>
          <p:cNvSpPr/>
          <p:nvPr/>
        </p:nvSpPr>
        <p:spPr>
          <a:xfrm>
            <a:off x="1692360" y="1484280"/>
            <a:ext cx="684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80"/>
                </a:solidFill>
                <a:latin typeface="Georgia"/>
              </a:rPr>
              <a:t>Главная причина движения земной коры — это процессы, происходящие внутри Земли.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26920" y="541440"/>
            <a:ext cx="784872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Правильны ли утверждения?</a:t>
            </a:r>
            <a:endParaRPr b="1" lang="en-US" sz="1800" spc="1" strike="noStrike">
              <a:ln w="3168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979640" y="4941720"/>
            <a:ext cx="1297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Да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5364000" y="4873680"/>
            <a:ext cx="1746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Нет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pic>
        <p:nvPicPr>
          <p:cNvPr id="5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56720" y="5589720"/>
            <a:ext cx="6667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484000" y="2491920"/>
            <a:ext cx="4535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660066"/>
              </a:solidFill>
              <a:latin typeface="Georgi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126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1152720" cy="2890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1954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 txBox="1"/>
          <p:nvPr/>
        </p:nvSpPr>
        <p:spPr>
          <a:xfrm>
            <a:off x="826920" y="541440"/>
            <a:ext cx="784872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Правильны ли утверждения?</a:t>
            </a:r>
            <a:endParaRPr b="1" lang="en-US" sz="1800" spc="1" strike="noStrike">
              <a:ln w="3168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979640" y="4724280"/>
            <a:ext cx="129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Да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364000" y="4691160"/>
            <a:ext cx="174636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Нет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sp>
        <p:nvSpPr>
          <p:cNvPr id="537" name=""/>
          <p:cNvSpPr/>
          <p:nvPr/>
        </p:nvSpPr>
        <p:spPr>
          <a:xfrm>
            <a:off x="1476360" y="1628640"/>
            <a:ext cx="7020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Georgia"/>
              </a:rPr>
              <a:t>В результате вертикальных колебаний образуются горсты, грабены или разломы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3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56720" y="5589720"/>
            <a:ext cx="6667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99"/>
            </a:gs>
            <a:gs pos="50000">
              <a:srgbClr val="33cccc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5219640" y="1989000"/>
            <a:ext cx="3600360" cy="12956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орст</a:t>
            </a:r>
            <a:r>
              <a:rPr b="1" lang="ru-RU" sz="2400" spc="-1" strike="noStrike">
                <a:solidFill>
                  <a:srgbClr val="af273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- выступы, в результате поднятия участков з.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9640" y="4653000"/>
            <a:ext cx="3888000" cy="11872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рабен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- глубокие впадины, в результате опускания участков з.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4033800" cy="274320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271764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  <p:sp>
        <p:nvSpPr>
          <p:cNvPr id="444" name=""/>
          <p:cNvSpPr txBox="1"/>
          <p:nvPr/>
        </p:nvSpPr>
        <p:spPr>
          <a:xfrm>
            <a:off x="611280" y="260280"/>
            <a:ext cx="813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c66ff">
                      <a:alpha val="80000"/>
                    </a:srgbClr>
                  </a:outerShdw>
                </a:effectLst>
                <a:latin typeface="Georgia"/>
              </a:rPr>
              <a:t>Вертикальные движения</a:t>
            </a:r>
            <a:endParaRPr b="1" lang="en-US" sz="1800" spc="1" strike="noStrike">
              <a:ln w="381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c66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00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2923920"/>
            <a:ext cx="75247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i="1" lang="en-US" sz="2600" spc="-1" strike="noStrike">
                <a:solidFill>
                  <a:srgbClr val="660066"/>
                </a:solidFill>
                <a:latin typeface="Georgia"/>
              </a:rPr>
              <a:t>...Я был свидетелем землетрясения силой </a:t>
            </a:r>
            <a:r>
              <a:rPr b="1" i="1" lang="en-US" sz="3000" spc="-1" strike="noStrike">
                <a:solidFill>
                  <a:srgbClr val="660066"/>
                </a:solidFill>
                <a:latin typeface="Georgia"/>
              </a:rPr>
              <a:t>4—5</a:t>
            </a:r>
            <a:r>
              <a:rPr b="0" i="1" lang="en-US" sz="2600" spc="-1" strike="noStrike">
                <a:solidFill>
                  <a:srgbClr val="660066"/>
                </a:solidFill>
                <a:latin typeface="Georgia"/>
              </a:rPr>
              <a:t> баллов. Эпицентр находился на глубине </a:t>
            </a:r>
            <a:r>
              <a:rPr b="1" i="1" lang="en-US" sz="3000" spc="-1" strike="noStrike">
                <a:solidFill>
                  <a:srgbClr val="660066"/>
                </a:solidFill>
                <a:latin typeface="Georgia"/>
              </a:rPr>
              <a:t>10</a:t>
            </a:r>
            <a:r>
              <a:rPr b="0" i="1" lang="en-US" sz="2600" spc="-1" strike="noStrike">
                <a:solidFill>
                  <a:srgbClr val="660066"/>
                </a:solidFill>
                <a:latin typeface="Georgia"/>
              </a:rPr>
              <a:t> км, а на поверхности образовались трещины шириной до </a:t>
            </a:r>
            <a:r>
              <a:rPr b="1" i="1" lang="en-US" sz="3000" spc="-1" strike="noStrike">
                <a:solidFill>
                  <a:srgbClr val="660066"/>
                </a:solidFill>
                <a:latin typeface="Georgia"/>
              </a:rPr>
              <a:t>1</a:t>
            </a:r>
            <a:r>
              <a:rPr b="0" i="1" lang="en-US" sz="2600" spc="-1" strike="noStrike">
                <a:solidFill>
                  <a:srgbClr val="660066"/>
                </a:solidFill>
                <a:latin typeface="Georgia"/>
              </a:rPr>
              <a:t> м, обвалы, разрушилось большинство зданий. Повсюду слышался гул. На обломках можно было встретить домашних кошек. Деревья лежали с выдернутыми из земли корнями...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1126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 flipH="1" rot="6000">
            <a:off x="0" y="6308640"/>
            <a:ext cx="9144000" cy="2714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179280" y="1989000"/>
            <a:ext cx="1008000" cy="2876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826920" y="541440"/>
            <a:ext cx="784872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800080">
                    <a:alpha val="90000"/>
                  </a:srgbClr>
                </a:solidFill>
                <a:latin typeface="Georgia"/>
              </a:rPr>
              <a:t>Найди ошибки в тексте и объясни их.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800080">
                  <a:alpha val="90000"/>
                </a:srgbClr>
              </a:solidFill>
              <a:latin typeface="Georgia"/>
              <a:ea typeface="Georgia"/>
            </a:endParaRPr>
          </a:p>
        </p:txBody>
      </p:sp>
      <p:pic>
        <p:nvPicPr>
          <p:cNvPr id="5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56720" y="5589720"/>
            <a:ext cx="66672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99"/>
            </a:gs>
            <a:gs pos="50000">
              <a:srgbClr val="33cccc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796000" y="1341360"/>
            <a:ext cx="2808360" cy="9460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Arial"/>
              </a:rPr>
              <a:t>Разрывы в земной кор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5734080"/>
            <a:ext cx="2052360" cy="9460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73e"/>
                </a:solidFill>
                <a:latin typeface="Arial"/>
              </a:rPr>
              <a:t>Смятие в склад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1280" y="260280"/>
            <a:ext cx="813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c66ff">
                      <a:alpha val="80000"/>
                    </a:srgbClr>
                  </a:outerShdw>
                </a:effectLst>
                <a:latin typeface="Georgia"/>
              </a:rPr>
              <a:t>Горизонтальные движения</a:t>
            </a:r>
            <a:endParaRPr b="1" lang="en-US" sz="1800" spc="1" strike="noStrike">
              <a:ln w="381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c66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rcRect l="0" t="13480" r="0" b="0"/>
          <a:stretch/>
        </p:blipFill>
        <p:spPr>
          <a:xfrm>
            <a:off x="1692360" y="2276640"/>
            <a:ext cx="2900160" cy="3238200"/>
          </a:xfrm>
          <a:prstGeom prst="rect">
            <a:avLst/>
          </a:prstGeom>
          <a:ln w="60480">
            <a:solidFill>
              <a:srgbClr val="af273e"/>
            </a:solidFill>
            <a:miter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3481200" cy="2610000"/>
          </a:xfrm>
          <a:prstGeom prst="rect">
            <a:avLst/>
          </a:prstGeom>
          <a:ln w="60480">
            <a:solidFill>
              <a:srgbClr val="af273e"/>
            </a:solidFill>
            <a:miter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643280" y="4314960"/>
            <a:ext cx="3457800" cy="2306520"/>
          </a:xfrm>
          <a:prstGeom prst="rect">
            <a:avLst/>
          </a:prstGeom>
          <a:ln w="44280">
            <a:solidFill>
              <a:srgbClr val="800000"/>
            </a:solidFill>
            <a:miter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50920" y="1125360"/>
            <a:ext cx="2665440" cy="2367000"/>
          </a:xfrm>
          <a:prstGeom prst="rect">
            <a:avLst/>
          </a:prstGeom>
          <a:ln w="4752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45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450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99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76360" y="1341000"/>
            <a:ext cx="6624720" cy="60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(медленные - в млн.лет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539640" y="189000"/>
            <a:ext cx="813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Georgia"/>
              </a:rPr>
              <a:t>Движения земной коры</a:t>
            </a:r>
            <a:endParaRPr b="1" lang="en-US" sz="1800" spc="1" strike="noStrike">
              <a:ln w="381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987640" y="3789360"/>
            <a:ext cx="338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cc99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Georgia"/>
              </a:rPr>
              <a:t>Волновые</a:t>
            </a:r>
            <a:endParaRPr b="1" lang="en-US" sz="1800" spc="1" strike="noStrike">
              <a:ln w="381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cc9900"/>
                  </a:gs>
                  <a:gs pos="100000">
                    <a:srgbClr val="ff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50920" y="5300640"/>
            <a:ext cx="360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cc99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Georgia"/>
              </a:rPr>
              <a:t>Колебательные</a:t>
            </a:r>
            <a:endParaRPr b="1" lang="en-US" sz="1800" spc="1" strike="noStrike">
              <a:ln w="381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cc9900"/>
                  </a:gs>
                  <a:gs pos="100000">
                    <a:srgbClr val="ff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076720" y="5445000"/>
            <a:ext cx="388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cc99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Georgia"/>
              </a:rPr>
              <a:t>Складчатые</a:t>
            </a:r>
            <a:endParaRPr b="1" lang="en-US" sz="1800" spc="1" strike="noStrike">
              <a:ln w="381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cc9900"/>
                  </a:gs>
                  <a:gs pos="100000">
                    <a:srgbClr val="ff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57" name=""/>
          <p:cNvSpPr/>
          <p:nvPr/>
        </p:nvSpPr>
        <p:spPr>
          <a:xfrm rot="4050600">
            <a:off x="5766480" y="3626640"/>
            <a:ext cx="3111480" cy="226800"/>
          </a:xfrm>
          <a:custGeom>
            <a:avLst/>
            <a:gdLst>
              <a:gd name="textAreaLeft" fmla="*/ 486000 w 3111480"/>
              <a:gd name="textAreaRight" fmla="*/ 2722680 w 3111480"/>
              <a:gd name="textAreaTop" fmla="*/ 56520 h 226800"/>
              <a:gd name="textAreaBottom" fmla="*/ 170280 h 226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1350000"/>
          </a:gra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6749400">
            <a:off x="250200" y="3620880"/>
            <a:ext cx="3130560" cy="228600"/>
          </a:xfrm>
          <a:custGeom>
            <a:avLst/>
            <a:gdLst>
              <a:gd name="textAreaLeft" fmla="*/ 488880 w 3130560"/>
              <a:gd name="textAreaRight" fmla="*/ 2739240 w 31305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20250000"/>
          </a:gra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5400000">
            <a:off x="3996360" y="2996280"/>
            <a:ext cx="1295640" cy="28728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0"/>
          </a:gra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71640" y="5661000"/>
            <a:ext cx="705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Castellar"/>
              </a:rPr>
              <a:t>Изгиб поверхности земли пологими волнами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356220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  <p:sp>
        <p:nvSpPr>
          <p:cNvPr id="462" name=""/>
          <p:cNvSpPr txBox="1"/>
          <p:nvPr/>
        </p:nvSpPr>
        <p:spPr>
          <a:xfrm>
            <a:off x="2268360" y="333360"/>
            <a:ext cx="489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cc99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Georgia"/>
              </a:rPr>
              <a:t>Волновые</a:t>
            </a:r>
            <a:endParaRPr b="1" lang="en-US" sz="1800" spc="1" strike="noStrike">
              <a:ln w="381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cc9900"/>
                  </a:gs>
                  <a:gs pos="100000">
                    <a:srgbClr val="ff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551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Castellar"/>
              </a:rPr>
              <a:t>Подъем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Castellar"/>
              </a:rPr>
              <a:t>континентов и уменьшение частей океанов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42920" y="260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cc99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Georgia"/>
              </a:rPr>
              <a:t>Колебательные</a:t>
            </a:r>
            <a:endParaRPr b="1" lang="en-US" sz="1800" spc="1" strike="noStrike">
              <a:ln w="381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cc9900"/>
                  </a:gs>
                  <a:gs pos="100000">
                    <a:srgbClr val="ff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346560" y="1682640"/>
            <a:ext cx="2590560" cy="3691080"/>
          </a:xfrm>
          <a:prstGeom prst="rect">
            <a:avLst/>
          </a:prstGeom>
          <a:ln w="604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50920" y="5013360"/>
            <a:ext cx="58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astellar"/>
              </a:rPr>
              <a:t>Требуется боковое сжатие. Складки возникают путем соскальзывания с поднимающихся участков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6659640" y="1844640"/>
            <a:ext cx="2154240" cy="4392720"/>
          </a:xfrm>
          <a:prstGeom prst="rect">
            <a:avLst/>
          </a:prstGeom>
          <a:ln w="60480">
            <a:solidFill>
              <a:srgbClr val="996633"/>
            </a:solidFill>
            <a:miter/>
          </a:ln>
        </p:spPr>
      </p:pic>
      <p:sp>
        <p:nvSpPr>
          <p:cNvPr id="468" name=""/>
          <p:cNvSpPr txBox="1"/>
          <p:nvPr/>
        </p:nvSpPr>
        <p:spPr>
          <a:xfrm>
            <a:off x="61128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cc99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Georgia"/>
              </a:rPr>
              <a:t>Складчатые</a:t>
            </a:r>
            <a:endParaRPr b="1" lang="en-US" sz="1800" spc="1" strike="noStrike">
              <a:ln w="381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cc9900"/>
                  </a:gs>
                  <a:gs pos="100000">
                    <a:srgbClr val="ff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99"/>
            </a:gs>
            <a:gs pos="100000">
              <a:srgbClr val="99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360" y="2133360"/>
            <a:ext cx="541008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"/>
          <p:cNvSpPr/>
          <p:nvPr/>
        </p:nvSpPr>
        <p:spPr>
          <a:xfrm>
            <a:off x="969840" y="4078440"/>
            <a:ext cx="1584360" cy="12952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 этап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складчатые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35280" y="3070080"/>
            <a:ext cx="1584360" cy="23036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Tahoma"/>
              </a:rPr>
              <a:t>II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 этап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глыбовые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43640" y="1341360"/>
            <a:ext cx="1584360" cy="40323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Tahoma"/>
              </a:rPr>
              <a:t>III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 этап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Складчато –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глыбовые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11280" y="5607000"/>
            <a:ext cx="7775640" cy="1251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990099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ff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5b005b"/>
                  </a:outerShdw>
                </a:effectLst>
                <a:latin typeface="Georgia"/>
              </a:rPr>
              <a:t>Этапы горообразования</a:t>
            </a:r>
            <a:endParaRPr b="1" lang="en-US" sz="1800" spc="1" strike="noStrike">
              <a:ln w="15840">
                <a:solidFill>
                  <a:srgbClr val="990099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ccff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5b005b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74" name=""/>
          <p:cNvSpPr/>
          <p:nvPr/>
        </p:nvSpPr>
        <p:spPr>
          <a:xfrm>
            <a:off x="684360" y="2349360"/>
            <a:ext cx="244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рединный хребет п-ва Камчатк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48000" y="1700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ерхоянский хребе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40360" y="404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Саяны, Алтай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128000" cy="24480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2050920" y="3141720"/>
            <a:ext cx="50403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6920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1:02:37Z</dcterms:created>
  <dc:creator>Teacher 3</dc:creator>
  <dc:description/>
  <dc:language>en-US</dc:language>
  <cp:lastModifiedBy>DEPO</cp:lastModifiedBy>
  <dcterms:modified xsi:type="dcterms:W3CDTF">2011-01-05T18:39:29Z</dcterms:modified>
  <cp:revision>48</cp:revision>
  <dc:subject/>
  <dc:title>Слайд 1</dc:title>
</cp:coreProperties>
</file>